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8C6-8930-40E2-A1D8-CBD3AF8A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B3CF-DA2A-4692-A3A0-B63E5A9C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0E4-EE95-4CF1-A5CE-CC1B3863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D51-2761-4007-9925-E5E94606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D23-DDAC-4B41-8E8A-438870F7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298-D442-4503-815F-808704D3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A1F-527E-4138-A853-9DF6366F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413A-3DA9-4B49-BFAF-FA4F1D41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0E1-6E4E-49D4-B80E-57019C37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6B5-0171-4293-88CE-86D5D04B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076C-BB73-42A1-9B5C-B02C97C6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0B1-8D69-4059-925E-6457BA95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874-DD55-4CA5-9EC6-805098500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E79-46A6-4971-AB3E-042D3E85B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A492-DF66-4CCA-85BF-76F818FE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175-A947-43C1-8694-56F18BDD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930-3C3F-4C2C-9E98-2AE2E5BF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D40E-D90F-4719-B8E2-6F506D6C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65D-6618-4DD1-A58E-94B4DB165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EB1-9E55-4FEE-8B33-3BB85A88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45B-3B37-4087-AC1A-4E023DFF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0C6A-4E04-4454-8916-873B26D6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E5E-FFBD-4C95-88A1-C35F879B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2A80-0904-46CE-A6EC-CCC6B68F5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351-D900-46C2-AF6E-320904BA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764-0E83-48B9-947F-E01E6AE3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DC0E-D248-4117-A307-754D4289C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ED7E-93D2-465F-8711-D0E73A40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6E2-8305-4377-BA8C-61B27481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305-CC97-486E-96F8-B085C8B1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AF1-51AC-44D1-BF60-E6B057E3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0689-4BC9-4AE7-AADA-37C19A4C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84E-04AB-4318-8EC3-40330228B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772-BE8F-4B18-A35F-75FBAB6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67F-3750-4274-8C15-1B297D6D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1BD-76FE-4913-B16C-0018C143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245-7DB0-42B5-9B23-3A5567BB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510-0DB9-460E-925F-5E78F4D9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E60F-E645-4BBA-BF03-28A6F49D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6EC1-1B5B-454D-8869-3A20F66D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3E47-7BEF-43C6-A2F3-1C0AF6C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8C20-9F5E-468F-B812-58ECB4D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BCA9-162E-4953-9B45-FCF1743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2563-C842-460B-839C-5FD5303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3CE-1801-44AF-9D1E-461215E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9AEF-3BD9-450F-8CA0-19AED43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824-DD90-494C-BBB7-D0F4AAC7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AB2-6B0C-4007-AFB3-9AC3A78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7C9-463E-4FBD-9781-0158E4C8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B8F0-A82C-4A05-94FA-777AB12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D02-8A51-4549-944E-4ED5A7E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64E-053A-483C-9365-F75A715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488-6E63-4B60-AF1B-12DBA3C9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625-B8D5-4AE7-9364-F9465128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D00-B126-458F-9BFF-B29DCBE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01D-D49E-4CF9-9916-66874FD1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488-F4D2-4F9A-A16B-214CB19B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605-61C3-4FE8-AF54-56C2437496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7D02-994A-40C8-9E3B-EAB96B43D8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The Science of Biolog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ology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3. Form a Hypothe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Based on the research you have done, write a possible answer or solution – your best educated guess – to your ques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819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4. Design an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trol Group: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Part of your experiment that is not varied in anyway.  You can compare your test groups to this set standard grou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Independent variable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e change/difference </a:t>
            </a:r>
            <a:r>
              <a:rPr b="0" i="1" lang="en-US" sz="2200" spc="-1" strike="noStrike">
                <a:solidFill>
                  <a:srgbClr val="0000ff"/>
                </a:solidFill>
                <a:latin typeface="Book Antiqua"/>
              </a:rPr>
              <a:t>you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 make in the experiment (the thing you are testing). Also called manipulated vari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Dependent variable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- The differences that result from the experiment, the resulting effect. Also called responding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stants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ings in the experiment that do not change, kept exactly the same for each test group so they do not affect the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81900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5. Data/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t is easier to understand the data if it is put into a table and/or grap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ake sure all data is clearly labeled.  Charts and graph should always include units and ti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en graphing the independent variable should be on the x axis and the dependent variable should be on the y 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6.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was expected?  What was unexp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trends did you notice in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7. Conclusion or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432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ndicate whether or not the data supports the hypothesis and explain why or why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possible improvements to the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further avenues of research or uses for the information discov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nfere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teps of the scientific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step would you find charts and graph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n independent variable and a dependent var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a control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it mean to have a controlled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1-2 An Example of</a:t>
            </a:r>
            <a:br>
              <a:rPr sz="3600"/>
            </a:b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 Science at 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bserved: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ometimes organisms just “arose” from nonliving things: eg. maggots came from m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Question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How do new living things come into be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ypothesis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In some cases, nonliving objects can spontaneously generate living org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xperiment- 1668, Francesco Re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at in covered and uncovered j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posed a new hypothesis:  The maggots came from eggs left by flies on the meat that were too small to 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cluded: Maggots came from f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62120" y="1219320"/>
            <a:ext cx="7465680" cy="4514400"/>
            <a:chOff x="762120" y="1219320"/>
            <a:chExt cx="7465680" cy="4514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768960" y="1250280"/>
              <a:ext cx="7458840" cy="448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762120" y="1219320"/>
              <a:ext cx="73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SERVATIONS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ies land on meat that is left uncovered.  Later, maggots appear on the meat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9320" y="1482480"/>
              <a:ext cx="328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POTHESIS: Flies produce maggots.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78680" y="173196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776520" y="2619360"/>
              <a:ext cx="19090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rs, type of meat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tion, temperature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778680" y="3645360"/>
              <a:ext cx="19958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ipulat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ze covering th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eps flies away from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3049560" y="204912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078240" y="204912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4831920" y="3229560"/>
              <a:ext cx="986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veral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s pass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2847960" y="482904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6081480" y="482904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782280" y="4588200"/>
              <a:ext cx="23997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ding Variable: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ther maggots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ear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762120" y="5226120"/>
              <a:ext cx="7338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7480" indent="-125748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LUSION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gots form only when flies come in contact with meat. Spontaneous generation of maggots did not occur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144000" cy="50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Redi’s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cience continues...New Ideas with new discover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New discovery!- tiny microorganisms (discovered by Anton van Leeuwen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Mid 1700s, John Needh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peats Redi’s experi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s hypothesis: Spontaneous generation can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nder the righ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: microorganisms appear in sealed flask of boiled gra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Science Experiments are always repe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Lazzaro Spallanza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nks Needham did not boil gravy long enough to kill existing micro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s: When left exposed to air, microorganisms will appear in boiled grav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e concluded that microorganisms could not come from gravy but appeared instead from microorganisms existing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Observing the Worl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If you are a thinker, you question things you observe and may not understand and you try to find an answer.  There are many ways to find these answers.  If you are a scientific thinker you find your answer using the scientific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5d32"/>
                </a:solidFill>
                <a:latin typeface="Book Antiqua"/>
              </a:rPr>
              <a:t>Why is the sky b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Spallanzani’s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20760" y="1600200"/>
            <a:ext cx="5021280" cy="4690440"/>
            <a:chOff x="1220760" y="1600200"/>
            <a:chExt cx="5021280" cy="469044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353700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5"/>
            <p:cNvSpPr/>
            <p:nvPr/>
          </p:nvSpPr>
          <p:spPr>
            <a:xfrm>
              <a:off x="1220760" y="35510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2946240" y="355104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095720" y="3551040"/>
              <a:ext cx="214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teeming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220760" y="5786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946240" y="569736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a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097520" y="5709960"/>
              <a:ext cx="167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free of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 tried first but didn’t bring gravy to hot enough temperature.</a:t>
            </a:r>
            <a:endParaRPr b="0" lang="en-US" sz="18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New Question: Is air the “life force”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1864, Louis Past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et out to dismiss the notion that the “life force”, air was needed to generate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sed curved neck on flask so air could get in but organisms woul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oncluded that all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n only come from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his has been tested over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d is now considered a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lled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biogen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asteur"/>
          <p:cNvPicPr/>
          <p:nvPr/>
        </p:nvPicPr>
        <p:blipFill>
          <a:blip r:embed="rId1"/>
          <a:stretch/>
        </p:blipFill>
        <p:spPr>
          <a:xfrm>
            <a:off x="6019920" y="4419720"/>
            <a:ext cx="2705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25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all 4 scientists use good scientific thinking and a controlled exper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pontaneous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point of the “swan neck” Pasteur added to his fl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iogen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5d32"/>
                </a:solidFill>
                <a:latin typeface="Rockwell Extra Bold"/>
              </a:rPr>
              <a:t>1-3 Studying Life (Biology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What is considered aliv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349"/>
                </a:solidFill>
                <a:latin typeface="Book Antiqua"/>
              </a:rPr>
              <a:t>living thin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are made of c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reprodu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are based on a universal genetic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grow and devel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obtain and use materials and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respond to their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Maintain a stable internal environment (homeostas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Change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tudying Life in Various Way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Book Antiqua"/>
              </a:rPr>
              <a:t>Branch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Divided into fields based on the type of life or  particular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Examples of type of life: Zoologist study animals, Botanist study plants, Microbiologists study bacteria and other small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Examples of perspective: Paleontologists study ancient life, Embryologists study newly forming lif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5d32"/>
              </a:solidFill>
              <a:latin typeface="Rockwell Extr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Book Antiqua"/>
            </a:endParaRPr>
          </a:p>
        </p:txBody>
      </p:sp>
      <p:pic>
        <p:nvPicPr>
          <p:cNvPr id="167" name="Picture 5" descr="Levels of Organization"/>
          <p:cNvPicPr/>
          <p:nvPr/>
        </p:nvPicPr>
        <p:blipFill>
          <a:blip r:embed="rId1"/>
          <a:stretch/>
        </p:blipFill>
        <p:spPr>
          <a:xfrm>
            <a:off x="3505320" y="1066680"/>
            <a:ext cx="1904760" cy="5457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493280" y="380880"/>
            <a:ext cx="650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5d32"/>
                </a:solidFill>
                <a:latin typeface="Rockwell Extra Bold"/>
              </a:rPr>
              <a:t>Studying Life at Various Levels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oeth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oeth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think of any ethical issues that science must 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1-4 Tools and Procedures used in Bi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ALWAYS uses the METRIC SYSTEM to make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units: Length- meter, Mass- gram, Volume- liter, Temp. 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s: 1 mile = _________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ound= ________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up =  ________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1-1 What is scie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 organized way of using evidence to learn about the natural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It also refers to the body of knowledge th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have accumulated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Book Antiqua"/>
              </a:rPr>
              <a:t>It is not </a:t>
            </a: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based on belief or faith, magic, or legend but on actual evidence.  It is concerned with the natural world, not the supernatural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of lens that use light to magnify image (usually 1000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udy dead or alive organisms, no smaller than .2 mic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used in conjunction with chemical stains (to identify parts) and fluorescent dyes (to create 3-D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eams of electrons to produce images,  up to 1000x more detailed than light microscop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observe living specimens (slides must be in a vacu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in types: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- scanning electron microscope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M- transmission electron microsc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8 characteristics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community and a pop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etric units would you use to measure the amount of water in a po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height?  Your weight?  The weight of a paper cl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icroscope-boxed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443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457200" y="380880"/>
            <a:ext cx="4495680" cy="685800"/>
          </a:xfrm>
          <a:prstGeom prst="rect">
            <a:avLst/>
          </a:pr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Rockwell Extra Bold"/>
              </a:rPr>
              <a:t>The Microscop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What is Biolog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905120" y="2780280"/>
            <a:ext cx="5790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Biology is a specific field of science that studies lif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5d32"/>
                </a:solidFill>
                <a:latin typeface="Rockwell Extra Bold"/>
              </a:rPr>
              <a:t>Important Skills used When Doing Sc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bserving-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process of gathering information using your senses in a careful, order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nferencing-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making a logical interpretation based on prior knowledge o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Good Scientists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skeptic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They question existing ideas and new hypoth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open-minded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are always willing to consider new ideas when evidence demand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ly on basic natural law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understand that the universe functions as a system of interacting proces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peat experiments: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 through an immense amount of research a certain hypothesis might become so well-supported that scientists consider it a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theory 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(example: biogenes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keep up with new knowledge gained through research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: They continually revise and re-evaluate their ideas.  NOTHING IS “FACT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805d32"/>
                </a:solidFill>
                <a:latin typeface="Book Antiqua"/>
              </a:rPr>
              <a:t>Many questions you have now or will have in the future involve science.  You must understand science to make intelligent decisions about such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How is Science Do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use the scientific method.  When scientists have a question about something in the world they use this method to find an 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the Problem or Question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a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Design an experiment with a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group, constants an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Analyze data/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Conclusion o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1. State the Problem or Ques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have I observ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do I want to kno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2. Resear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as anyone asked this befo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id they discover an answ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ow did they go about looking for an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at other things do I need to understand to answer my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6:17:46Z</dcterms:created>
  <dc:creator>Brian and Megan Gallagher</dc:creator>
  <dc:description/>
  <dc:language>en-US</dc:language>
  <cp:lastModifiedBy>udsd</cp:lastModifiedBy>
  <dcterms:modified xsi:type="dcterms:W3CDTF">2009-09-09T14:42:37Z</dcterms:modified>
  <cp:revision>10</cp:revision>
  <dc:subject/>
  <dc:title>The Science of B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